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856-6D89-463A-AFD4-92F037CE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D64-0564-4F24-B050-5E3E709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D21-8D9A-4271-91F4-18EB6D82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83B-C25E-4FF3-8B5F-405FD35E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A77-CE8B-462A-9EFE-F70E5998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076-34D3-4A2D-B3EF-D4D40B1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1FF-7690-4823-B829-236F9B92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29C-A884-488A-88FF-73CE298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756-E177-4A42-84CF-44B85F7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6A3-4DBC-477E-A71F-036B57DE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F1F-2407-4109-A84E-94D03F2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5EA-C7EF-4472-9C39-54B597B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745-6BE2-4088-8A15-C8D14574B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post-gazette.com/popup.asp?img=http://www.post-gazette.com/images3/20050306lifemagazine_450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76720"/>
            <a:ext cx="3200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0120" y="4800600"/>
            <a:ext cx="152388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267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vi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16328" t="5237" r="18385" b="16354"/>
          <a:stretch/>
        </p:blipFill>
        <p:spPr>
          <a:xfrm>
            <a:off x="5715000" y="22860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651600">
            <a:off x="7214760" y="3657240"/>
            <a:ext cx="192888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2503" t="10000" r="29999" b="0"/>
          <a:stretch/>
        </p:blipFill>
        <p:spPr>
          <a:xfrm>
            <a:off x="7485120" y="228600"/>
            <a:ext cx="1565280" cy="281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733920"/>
            <a:ext cx="32763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6591240" cy="35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20577000">
            <a:off x="4191120" y="1066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19720" y="1523880"/>
            <a:ext cx="1066680" cy="1905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981080"/>
            <a:ext cx="1981080" cy="99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154600">
            <a:off x="7544160" y="106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4956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the basics of your crime and investigate the greater meaning of the event you are studying, within the civil rights stru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13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sible Evidence to Exa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Magazin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16999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743200" y="3581280"/>
            <a:ext cx="201312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143000"/>
            <a:ext cx="2190600" cy="293364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32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is Eviden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467160" cy="2378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It Colored In Shades of G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15612" t="24090" r="15612" b="39924"/>
          <a:stretch/>
        </p:blipFill>
        <p:spPr>
          <a:xfrm>
            <a:off x="457200" y="2057400"/>
            <a:ext cx="441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did the crime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your crime fit in within the context of the greater civil rights moveme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905120" cy="21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324000">
            <a:off x="837720" y="2925720"/>
            <a:ext cx="39625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your crime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397160"/>
            <a:ext cx="49528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Right?  Who I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965560" cy="457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715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Guilty?  Who Is Innoc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is the Fire?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Firefighters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3003" t="4513" r="2002" b="13923"/>
          <a:stretch/>
        </p:blipFill>
        <p:spPr>
          <a:xfrm>
            <a:off x="1371600" y="179856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haps A Bus Is On Fi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6141"/>
          <a:stretch/>
        </p:blipFill>
        <p:spPr>
          <a:xfrm>
            <a:off x="1219320" y="1471680"/>
            <a:ext cx="690552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re these hoses being used for a purpose other than fighting f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6386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examine your evidence you need to 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664600">
            <a:off x="5562720" y="1371600"/>
            <a:ext cx="5344920" cy="770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2448000" cy="975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30000" r="0" b="0"/>
          <a:stretch/>
        </p:blipFill>
        <p:spPr>
          <a:xfrm rot="395400">
            <a:off x="3733920" y="411480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38224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o’s Point of Vie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Investiga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28954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ope you’re up to this very important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nous crimes have been committed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einous, in fact,  that we have had to call in outside, unbiased sources to investi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072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L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622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ten local and Federal police and governments did not see eye to eye on crime cases.  From evidence you collect, who was following the letter of the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10787" r="0" b="13748"/>
          <a:stretch/>
        </p:blipFill>
        <p:spPr>
          <a:xfrm>
            <a:off x="1752480" y="3276720"/>
            <a:ext cx="6477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STUDY YOUR EV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933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ll need to ask questions, challenging questions, rigorou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223" b="15276"/>
          <a:stretch/>
        </p:blipFill>
        <p:spPr>
          <a:xfrm>
            <a:off x="533520" y="3429000"/>
            <a:ext cx="3809880" cy="225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266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47920" y="2438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 Wh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Mi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9436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6019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00240" y="274680"/>
            <a:ext cx="3886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omplete Your Detective Sh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Summarize your find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Submit your Detective Rep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13926" r="56071" b="34239"/>
          <a:stretch/>
        </p:blipFill>
        <p:spPr>
          <a:xfrm>
            <a:off x="838080" y="1371600"/>
            <a:ext cx="2895840" cy="5105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19520" y="4800600"/>
            <a:ext cx="1752480" cy="1447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3341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838080"/>
            <a:ext cx="5715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ach Group of Detective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ill Be Assigned A Specific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me To Investigat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6044" t="13890" r="23959" b="12504"/>
          <a:stretch/>
        </p:blipFill>
        <p:spPr>
          <a:xfrm>
            <a:off x="2514600" y="1676520"/>
            <a:ext cx="44863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049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th Street Church Bombing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mingham, 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. Faubus Denies Integration Little Rock Arkansas  195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24031" r="0" b="0"/>
          <a:stretch/>
        </p:blipFill>
        <p:spPr>
          <a:xfrm>
            <a:off x="914400" y="1981080"/>
            <a:ext cx="66294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1752480"/>
          </a:xfrm>
          <a:prstGeom prst="rect">
            <a:avLst/>
          </a:prstGeom>
          <a:solidFill>
            <a:srgbClr val="ffffff"/>
          </a:solidFill>
          <a:ln w="1620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ting of Rev. Fred Shuttleswor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pt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41115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ial of Voting Rights to All Citizens of Selma A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46320" t="0" r="0" b="0"/>
          <a:stretch/>
        </p:blipFill>
        <p:spPr>
          <a:xfrm>
            <a:off x="3276720" y="1676520"/>
            <a:ext cx="2903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dren’s “illegal” protest march, Birmingham, 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6067" t="6661" r="1514" b="0"/>
          <a:stretch/>
        </p:blipFill>
        <p:spPr>
          <a:xfrm>
            <a:off x="609480" y="2057400"/>
            <a:ext cx="6019920" cy="4145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1447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 Park’s Arre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273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43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6:41:15Z</dcterms:created>
  <dc:creator>Avon Public Schools</dc:creator>
  <dc:description/>
  <dc:language>en-US</dc:language>
  <cp:lastModifiedBy>Jacqueline Lampley</cp:lastModifiedBy>
  <dcterms:modified xsi:type="dcterms:W3CDTF">2007-06-24T03:16:14Z</dcterms:modified>
  <cp:revision>24</cp:revision>
  <dc:subject/>
  <dc:title>Slide 1</dc:title>
</cp:coreProperties>
</file>